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229-48B0-41B5-9DE5-D0698A98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A1E-58A1-4EC7-A976-9C9C43EA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C95-B2A6-4530-91D9-AE25DEA3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B16E-31B7-41FF-B2C9-006DF521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AAB3-E650-4321-AC3B-9E3B87CB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E474-72F8-44F1-906C-41643AE4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524E-8429-4556-9678-9083B82D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D338-0127-43D6-82AA-DE921739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4230-4AD2-4B59-98CC-C34AC641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CBEE-D929-4BB8-8661-D5806BDE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AEAB-2FC2-4D5F-AC6E-8A0DC49B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180-2BDF-49B9-8123-838D67F3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35C7-117C-489F-A6C2-F230F446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276B-16D3-495F-858A-49441222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73A1-6A79-4F54-B25B-1BE45809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EF2B-62ED-4366-9C60-E4CEE15A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9B02-C000-4307-B156-51106221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B1DC7-79C3-49A7-A094-EE0B45E6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42EA-3035-4015-9D98-152E018E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8C8BE-7841-4D08-8AEB-21CF9E76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9EB30-3386-44D1-8054-CCFB4B85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0AB05-B613-4065-ABE3-4A6DF583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7AB9-8C05-4D58-8040-8F9A49DF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3445E-DFF6-464F-B7A0-793149FE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5BC86-5128-430B-B665-C2AB0CEA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AF5A6-2563-4941-9464-E9172652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6B144-9955-4B36-B5EC-40CAC73F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324CA-310C-4AE2-A31B-ACC1979D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A9B33-93B7-414A-BA9C-CEC6A8B6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FEECE-391D-409E-815D-554A1325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B3011-F17D-4DAB-B38A-D337EB0D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51738-4B4C-42EF-81D6-4253D263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5A98A-2A96-4E53-9F3E-17F40B4A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4D41-4B15-4830-AE80-972B9B17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697BF-AAC2-4209-94C2-6910C358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612AF-DE10-4B26-B8A1-C62F8DD3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D1478-F45E-4D2A-AE12-7E8FD416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067E8-1DAE-497D-B908-B3C72C81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FBE68-0AA1-4466-B555-D75C0BAE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AC043-8CCC-4954-B608-E0B76632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C6DE3-C67F-425E-BED9-89A4B10B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2A38A-7ACB-4FB5-B2D6-A8959E34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44890-B3BC-4005-9B75-D3BCFB86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B6DD2-D31C-4A70-9DAA-48968A52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714-4682-41ED-AD54-F88C6880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401B4-F31B-475B-B195-023FD786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EF207-6F44-4108-A2FA-9C96F1DB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63B41-1B6D-4184-A024-46715B27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81BBB-B457-45FF-B695-7412B9B2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F8917-59C0-4422-80B1-C4E00B8E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43A79-EEB2-4542-811F-F9383081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B6D23-D4F7-49B5-937E-A661BCDA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04497-DBEA-445B-BECA-70732842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9FC67-135A-4C3C-B462-2D56023F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F20E1-1D33-49DF-B271-B218A666B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C56C-86C0-4A4F-A4F5-CC766843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FFC04-64DC-45FF-97E6-01EFB0F1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17029-54C4-4619-AD84-90E25833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B1383-2614-4FD4-99D2-67D8B766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8B62E-717B-48ED-8DA6-1D373E12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483B3-E341-46EB-99B8-8A57A36E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29A36-2F98-494B-8EF4-F455973A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3296B-463C-4690-88CF-3311D15C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071DE-76C3-478E-A8FF-C5DFD1A8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B038C-D07C-49EE-91D4-46081377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40FBF-00A9-4B4F-9ACF-24746B37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7C6-3330-4C7A-AF1A-C760F30A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6E469-D961-4040-9500-5040D4C1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3CEBD-E820-4F09-BBD9-BCB38AE4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008AA-A2A7-4D2D-8D2E-68217336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C786D-88FE-4B88-AD8A-50E58A15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A9F50-FB79-4256-940C-C01E40DE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84DEA-25D6-45B4-9260-277BAB48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4688A-3F72-487C-BC6C-DF3BCEBD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17B0E-72FB-4201-BCDC-23BB426A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4DF39-8A0B-42A0-B75C-BE5A50E3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84BB3-395E-451B-82AE-E11BECF4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D74B-BCF8-4F47-8B1F-05F99E55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B07E6-3DFE-4497-AC12-DC3B8962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215EB-2D0E-485E-9615-6C9D971B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71ECA-63A8-466F-968E-F4703C32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019F7-4F03-4824-B45F-84194A69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67313-EB69-489A-AD43-C7BBD733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58DEF-66B5-423D-BB3D-512800B4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F91CF-EB59-4DE7-9B86-C570FA9F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CAB1C-3B27-4F50-A8D7-8A500974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114C9-1778-46D1-957F-6C4BC30A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70965-E14A-43FC-978B-96CCE1FF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13C2-8826-4C35-B470-40B710B4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D1D85-5E9D-43FF-A0ED-169E446A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C938A-9BCA-4C64-AEBD-5A8798BE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D8D03-103B-4A27-9BCB-32031A7A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9A0A9-AE71-4AFB-88B3-6A8F5680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09C95-D228-496B-918D-FBC061F5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CD9D3-098E-4BB0-A182-F103D10E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73CDB-0DC2-4938-AF03-66013680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rostokąt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9F1D-034A-4B98-B24D-936C6C43C5AD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ostokąt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rostokąt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5698-7584-46EB-B6A5-61E06EBFACD0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rostokąt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rostokąt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DB52-FEC5-443E-B786-CA96EDDE5E31}" type="slidenum"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EA27-B160-43DC-8F9A-49AF2B552227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rostokąt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rostokąt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C2B2-B5C1-49D1-B939-C8257C84F7FA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rostokąt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rostokąt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rostokąt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rostokąt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583C-0C69-4D27-BB37-A7B378DCF381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rostokąt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rostokąt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528A-85FF-42F6-8059-23AFB9D1516F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rostokąt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rostokąt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9f293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0E96-CBDC-42C0-AE22-E215D959139A}" type="slidenum">
              <a:rPr b="0" lang="pl-P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390600" y="493560"/>
            <a:ext cx="80769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86640" cy="12621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rbel"/>
              </a:rPr>
              <a:t>Zapewnienie osobom doznającym przemocy bezpieczeństwa i profesjonalnej pomocy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rbel"/>
              </a:rPr>
              <a:t>Za przemoc zawsze odpowiedzialny jest sprawca przemocy, bez względu na to, co zrobiła ofiara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rbel"/>
              </a:rPr>
              <a:t>Nikt nie ma prawa stosować przemocy wobec drugiego człowieka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rbel"/>
              </a:rPr>
              <a:t>Nie ma żadnego uzasadnienia ani usprawiedliwienia przemocy domowej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rbel"/>
              </a:rPr>
              <a:t>Zrozumienie reakcji ofiary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rbel"/>
              </a:rPr>
              <a:t>Ofiara przemocy w rodzinie cierpi na skutek wielokrotnego urazu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rbel"/>
              </a:rPr>
              <a:t>Zrozumiałe i dopuszczalne są wahania i niekonsekwencje w zachowaniu i decyzjach, bowiem jest to jeden z objawów doznanego urazu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rbel"/>
              </a:rPr>
              <a:t>Podstawowym zadaniem jest zatrzymanie przemocy, bez tego pomoc jest nieskuteczna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285840" y="92160"/>
            <a:ext cx="8480160" cy="1322280"/>
          </a:xfrm>
          <a:prstGeom prst="rect">
            <a:avLst/>
          </a:prstGeom>
          <a:ln w="0">
            <a:noFill/>
          </a:ln>
        </p:spPr>
      </p:pic>
      <p:grpSp>
        <p:nvGrpSpPr>
          <p:cNvPr id="370" name="Grupa 4"/>
          <p:cNvGrpSpPr/>
          <p:nvPr/>
        </p:nvGrpSpPr>
        <p:grpSpPr>
          <a:xfrm>
            <a:off x="533520" y="1774800"/>
            <a:ext cx="7772400" cy="4626000"/>
            <a:chOff x="533520" y="1774800"/>
            <a:chExt cx="7772400" cy="4626000"/>
          </a:xfrm>
        </p:grpSpPr>
        <p:sp>
          <p:nvSpPr>
            <p:cNvPr id="371" name="Trójkąt równoramienny 5"/>
            <p:cNvSpPr/>
            <p:nvPr/>
          </p:nvSpPr>
          <p:spPr>
            <a:xfrm>
              <a:off x="533520" y="1774800"/>
              <a:ext cx="5105520" cy="4626000"/>
            </a:xfrm>
            <a:prstGeom prst="triangle">
              <a:avLst>
                <a:gd name="adj" fmla="val 50000"/>
              </a:avLst>
            </a:prstGeom>
            <a:solidFill>
              <a:srgbClr val="f07f09"/>
            </a:solidFill>
            <a:ln w="478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Dowolny kształt 6"/>
            <p:cNvSpPr/>
            <p:nvPr/>
          </p:nvSpPr>
          <p:spPr>
            <a:xfrm>
              <a:off x="3913200" y="2238120"/>
              <a:ext cx="4392720" cy="8222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47880">
              <a:solidFill>
                <a:srgbClr val="f07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74520" bIns="745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Corbel"/>
                </a:rPr>
                <a:t>Opracowanie i realizacja powiatowego programu przeciwdziałania przemocy </a:t>
              </a:r>
              <a:br>
                <a:rPr sz="1200"/>
              </a:br>
              <a:r>
                <a:rPr b="1" lang="pl-PL" sz="1200" spc="-1" strike="noStrike">
                  <a:solidFill>
                    <a:srgbClr val="000000"/>
                  </a:solidFill>
                  <a:latin typeface="Corbel"/>
                </a:rPr>
                <a:t>w rodzinie oraz ochrony ofiar przemocy w rodzinie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Dowolny kształt 7"/>
            <p:cNvSpPr/>
            <p:nvPr/>
          </p:nvSpPr>
          <p:spPr>
            <a:xfrm>
              <a:off x="3913200" y="3162240"/>
              <a:ext cx="4392720" cy="8222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47880">
              <a:solidFill>
                <a:srgbClr val="f07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74520" bIns="745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Corbel"/>
                </a:rPr>
                <a:t>Opracowanie i realizacja programów służących działaniom profilaktycznym mającym na celu udzielenie specjalistycznej pomocy, zwłaszcza w zakresie promowania i wdrożenia prawidłowych metod wychowawczych w stosunku do dzieci </a:t>
              </a:r>
              <a:br>
                <a:rPr sz="1200"/>
              </a:br>
              <a:r>
                <a:rPr b="1" lang="pl-PL" sz="1200" spc="-1" strike="noStrike">
                  <a:solidFill>
                    <a:srgbClr val="000000"/>
                  </a:solidFill>
                  <a:latin typeface="Corbel"/>
                </a:rPr>
                <a:t>w rodzinach zagrożonych przemocą w rodzinie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Dowolny kształt 8"/>
            <p:cNvSpPr/>
            <p:nvPr/>
          </p:nvSpPr>
          <p:spPr>
            <a:xfrm>
              <a:off x="3913200" y="4087800"/>
              <a:ext cx="4392720" cy="8222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47880">
              <a:solidFill>
                <a:srgbClr val="f07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74520" bIns="74520" anchor="ctr">
              <a:noAutofit/>
            </a:bodyPr>
            <a:p>
              <a:pPr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Corbel"/>
                </a:rPr>
                <a:t>Zapewnienie osobom dotkniętym przemocą w rodzinie miejsc </a:t>
              </a:r>
              <a:br>
                <a:rPr sz="1200"/>
              </a:br>
              <a:r>
                <a:rPr b="1" lang="pl-PL" sz="1200" spc="-1" strike="noStrike">
                  <a:solidFill>
                    <a:srgbClr val="000000"/>
                  </a:solidFill>
                  <a:latin typeface="Corbel"/>
                </a:rPr>
                <a:t>w ośrodkach wsparcia</a:t>
              </a:r>
              <a:r>
                <a:rPr b="1" lang="pl-PL" sz="900" spc="-1" strike="noStrike">
                  <a:solidFill>
                    <a:srgbClr val="000000"/>
                  </a:solidFill>
                  <a:latin typeface="Corbel"/>
                </a:rPr>
                <a:t>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Dowolny kształt 9"/>
            <p:cNvSpPr/>
            <p:nvPr/>
          </p:nvSpPr>
          <p:spPr>
            <a:xfrm>
              <a:off x="3913200" y="5013360"/>
              <a:ext cx="4392720" cy="8222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47880">
              <a:solidFill>
                <a:srgbClr val="f07f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520" rIns="74520" tIns="74520" bIns="745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Corbel"/>
                </a:rPr>
                <a:t>Zapewnienie osobom dotkniętym przemocą w rodzinie miejsc </a:t>
              </a:r>
              <a:br>
                <a:rPr sz="1200"/>
              </a:br>
              <a:r>
                <a:rPr b="1" lang="pl-PL" sz="1200" spc="-1" strike="noStrike">
                  <a:solidFill>
                    <a:srgbClr val="000000"/>
                  </a:solidFill>
                  <a:latin typeface="Corbel"/>
                </a:rPr>
                <a:t>w ośrodkach interwencji kryzysowej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pic>
        <p:nvPicPr>
          <p:cNvPr id="377" name="Symbol zastępczy zawartości 11" descr=""/>
          <p:cNvPicPr/>
          <p:nvPr/>
        </p:nvPicPr>
        <p:blipFill>
          <a:blip r:embed="rId2"/>
          <a:stretch/>
        </p:blipFill>
        <p:spPr>
          <a:xfrm>
            <a:off x="450720" y="1743120"/>
            <a:ext cx="82425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285840" y="92160"/>
            <a:ext cx="8407440" cy="1322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just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orbel"/>
              </a:rPr>
              <a:t>Lokalny system przeciwdziałania przemocy w rodzinie – </a:t>
            </a: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zespół instytucji w środowisku lokalnym działających na rzecz zapobiegania i zwalczania przemocy, wraz z ich potencjałem   kadrowym, kompetencyjnym, wiedzą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i umiejętnościami, instrumentami pomocy i wsparcia, procedurami postępowania, zasobami rzeczowym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i finansowymi, wzajemnie ze sobą współpracujących w sposób skoordynowany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347760" y="152280"/>
            <a:ext cx="8345520" cy="12621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609480" indent="-60948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Ograniczenie rozmiarów zjawiska przemocy w rodzinie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Podniesienie skuteczności interwencji wobec problemu przemocy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Rozwój oferty pomocowej dla rodzin uwikłanych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w przemoc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Integracja działań instytucji wobec problemu przemoc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w rodzinie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609480" indent="-6094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Rozwój wiedzy, kompetencji, umiejętności reagowania wobec problemu przemocy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Podniesienie poziomu świadomości społecznej na temat problemu przemocy w rodzini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07440" cy="12621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578880" indent="-578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m. in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Stworzenie sprawnego systemu pomocy rodzinom oraz osobom dotkniętym przemoc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Rozwój współpracy interdyscyplinarnej w przeciwdziałaniu krzywdzeniu</a:t>
            </a:r>
            <a:r>
              <a:rPr b="1" lang="pl-PL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osób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Zwiększenie efektywności pracy instytucji zajmujących się udzielaniem pomocy osobom pokrzywdzonym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Zmiana postaw społecznych wobec zjawiska przemoc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w rodzini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78880" indent="-578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347760" y="122400"/>
            <a:ext cx="8345520" cy="1292040"/>
          </a:xfrm>
          <a:prstGeom prst="rect">
            <a:avLst/>
          </a:prstGeom>
          <a:ln w="0">
            <a:noFill/>
          </a:ln>
        </p:spPr>
      </p:pic>
      <p:pic>
        <p:nvPicPr>
          <p:cNvPr id="387" name="Symbol zastępczy zawartości 11" descr=""/>
          <p:cNvPicPr/>
          <p:nvPr/>
        </p:nvPicPr>
        <p:blipFill>
          <a:blip r:embed="rId2"/>
          <a:stretch/>
        </p:blipFill>
        <p:spPr>
          <a:xfrm>
            <a:off x="378000" y="1725480"/>
            <a:ext cx="824220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347760" y="122400"/>
            <a:ext cx="8345520" cy="12920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MOCNE STRON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Dobrze przygotowana i stale doskonaląca umiejętności kadra instytucji działających na rzecz rodziny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Znajomość problemu i dobrze działające służby zajmujące się profilaktyką i wsparciem rodzin zagrożonych patologiami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Rozwój poradnictwa dla osób uwikłanych w przemoc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Poparcie działań i  współpraca  z  samorządem powiatowym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Działalność Punktu Interwencji Kryzysowej w Brzesk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347760" y="122400"/>
            <a:ext cx="8345520" cy="12920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SŁABE STRON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Niewystarczająca infrastruktura socjalna powiatu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Brak wypracowanych systemów wspomagania działań profilaktycznych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Brak spójnego systemu współpracy pomiędzy podmiotami działającymi na rzecz rodzin zagrożonych przemocą (prokuratura, policja, sądy, pomoc społeczna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Brak specjalistycznego ośrodka wsparcia dla ofiar przemocy w rodzinie</a:t>
            </a: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orbel"/>
              </a:rPr>
              <a:t>TO ZAMIERZONE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pl-PL" sz="3600" spc="-1" strike="noStrike">
                <a:solidFill>
                  <a:srgbClr val="000000"/>
                </a:solidFill>
                <a:latin typeface="Corbel"/>
              </a:rPr>
              <a:t>I WYKORZYSTUJĄCE PRZEWAGĘ SIŁ DZIAŁANIE PRZECIW CZŁONKOWI RODZINY, NARUSZAJĄCE PRAWA 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Corbel"/>
              </a:rPr>
              <a:t>I DOBRA OSOBISTE, POWODUJĄCE CIERPIENIE I SZKODY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347760" y="122400"/>
            <a:ext cx="8345520" cy="12920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ZAGROŻENI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Słaba kondycja ekonomiczna rodzin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Negatywne wzorce zachowań społecznych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Bezradność w sprawach opiekuńczo-wychowawczych rodzin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Problemy alkoholowe członków rodzi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347760" y="122400"/>
            <a:ext cx="8345520" cy="12920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SZAN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Rosnąca w społeczeństwie świadomość zagrożeń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Wykształcona i stale doskonaląca swoje umiejętności kadra pracowników służb społecznych, policji, sądu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Współpraca z ośrodkami pomocy społecznej w realizacji zadań pomocy społecznej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609480" indent="-60948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Realizacja programów profilaktycznych umożliwiających rodzinie dotkniętej przemocą lub inną sytuacją kryzysową przezwyciężanie trudności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ytuł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80920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7" name=""/>
          <p:cNvGraphicFramePr/>
          <p:nvPr/>
        </p:nvGraphicFramePr>
        <p:xfrm>
          <a:off x="457200" y="17748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e Progra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adania Progra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alizator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lanowany termin real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kacja społeczna i promocja zachowań społecznych wolnych od przemo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 Opracowanie materiałów (ulotek, broszur, artykułów)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 temat zapobiegania,  sposoby reagowania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przemoc w rodzini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 Rozwijanie edukacji i poradnictwa rodzinnego na rzecz przeciwdziałania przemocy w rodzini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 Organizowanie  spotkań mających na celu zwrócenie uwagi dzieci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młodzieży na problem przemoc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iatowe Centrum Pomocy Rodzinie, Ośrodki Pomocy Społecznej,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zkoł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dania o charakterze ciągły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80920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9" name=""/>
          <p:cNvGraphicFramePr/>
          <p:nvPr/>
        </p:nvGraphicFramePr>
        <p:xfrm>
          <a:off x="457200" y="1774800"/>
          <a:ext cx="8229600" cy="4702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09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e Progra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adania Progra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alizator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lanowany termin real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89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spółpraca instytucji na rzecz zapobiegania 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zwalczania przemocy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rodzi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 Realizacja szkole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NewRoman"/>
                        </a:rPr>
                        <a:t>ń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la pracowników instytucji zaanga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NewRoman"/>
                        </a:rPr>
                        <a:t>ż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wanych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zapobieg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zwalczanie przemoc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Organizow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erencj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Powołanie Powiatowego Zespołu Interdyscyplinarnego 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. przeciwdziałania przemocy domowe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Cykliczne spotkania Powiatowego Zespołu  Interdyscyplinarnego  </a:t>
                      </a:r>
                      <a:br>
                        <a:rPr sz="1400"/>
                      </a:b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z Zespołami Gminny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iatowe Centrum Pomocy Rodzinie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enda Powiatowa Poli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ejskie i Gminne Ośrodki Pomocy Społecznej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ratorzy Sądow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dania o charakterze ciągły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kwartał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danie o charakterze ciągły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80920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457200" y="1774800"/>
          <a:ext cx="8229600" cy="399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e Progra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adania Progra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alizator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lanowany termin real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353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moc , wsparcie dla osób uwikłanych w przemoc w rodzin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 Utworzenie grupy wsparcia dla ofiar przemocy domowej w PIK przy PCP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 Opracowanie i realizacja programów korekcyjno- edukacyjnych dla osó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suj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NewRoman"/>
                        </a:rPr>
                        <a:t>ą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h przem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Utworzenie specjalistycznej poradni wsparcia dla ofiar przemo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K przy PCPR Brzes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rostwo Powiatowe Brzes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kwartał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kwartał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ytuł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80920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3" name=""/>
          <p:cNvGraphicFramePr/>
          <p:nvPr/>
        </p:nvGraphicFramePr>
        <p:xfrm>
          <a:off x="457200" y="1774800"/>
          <a:ext cx="8229600" cy="4473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9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e Progra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adania Progra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alizator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lanowany termin real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47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większanie skuteczno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NewRoman"/>
                        </a:rPr>
                        <a:t>ś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dziel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mocy rodzin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tkni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NewRoman"/>
                        </a:rPr>
                        <a:t>ę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m przemoc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wi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NewRoman"/>
                        </a:rPr>
                        <a:t>ę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sza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uteczno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NewRoman"/>
                        </a:rPr>
                        <a:t>ś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hrony ofi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zemocy 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zi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Realizacja szkole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noszący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walifikac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zczególnych słu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NewRoman"/>
                        </a:rPr>
                        <a:t>ż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Tworzenie materiał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trukta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NewRoman"/>
                        </a:rPr>
                        <a:t>ż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wych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dur post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NewRoman"/>
                        </a:rPr>
                        <a:t>ę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bec wyst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NewRoman"/>
                        </a:rPr>
                        <a:t>ę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zemocy w rodzi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kt Interwencji Kryzysowej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wiatowe Centrum Pomocy Rodzinie, Gminne Ośrodki Pomocy Społecznej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ic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dania o charakterze ciągły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ytuł 1" descr=""/>
          <p:cNvPicPr/>
          <p:nvPr/>
        </p:nvPicPr>
        <p:blipFill>
          <a:blip r:embed="rId1"/>
          <a:stretch/>
        </p:blipFill>
        <p:spPr>
          <a:xfrm>
            <a:off x="317520" y="0"/>
            <a:ext cx="8375760" cy="14144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Źródłem finansowania programu będą środki własne powiatu brzeskiego oraz dotacje celowe - środki pozabudżetowe pozyskiwane z innych źróde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Program będzie monitorowany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i ewaluowany corocznie w formie rocznego sprawozdania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ytuł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20040" cy="12621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Naczelnym celem programu jest redukcja zachowań agresywnych u jego uczestników, kształtowanie postawy partnerstw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i szacunku wobec kobiet/mężczyzn oraz odpowiedzialności za popełnione czyny „przemocowe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ytuł 1" descr=""/>
          <p:cNvPicPr/>
          <p:nvPr/>
        </p:nvPicPr>
        <p:blipFill>
          <a:blip r:embed="rId1"/>
          <a:stretch/>
        </p:blipFill>
        <p:spPr>
          <a:xfrm>
            <a:off x="285840" y="152280"/>
            <a:ext cx="8420040" cy="1262160"/>
          </a:xfrm>
          <a:prstGeom prst="rect">
            <a:avLst/>
          </a:prstGeom>
          <a:ln w="0">
            <a:noFill/>
          </a:ln>
        </p:spPr>
      </p:pic>
      <p:pic>
        <p:nvPicPr>
          <p:cNvPr id="409" name="Symbol zastępczy zawartości 3" descr=""/>
          <p:cNvPicPr/>
          <p:nvPr/>
        </p:nvPicPr>
        <p:blipFill>
          <a:blip r:embed="rId2"/>
          <a:stretch/>
        </p:blipFill>
        <p:spPr>
          <a:xfrm>
            <a:off x="365040" y="1768320"/>
            <a:ext cx="843120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ytuł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Ocena raz w roku przez PIK przy PCP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Program jest dokumentem otwarty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Finansowanie programu PIK, PCPR,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środki powiatu środki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środki  z województw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I in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JEST INTENCJONALNA - Jest zamierzonym działaniem człowieka i ma na celu kontrolowanie i podporządkowanie ofiary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UTRUDNIA SAMOOBRONĘ Z UWAGI NA WYRAŹNĄ ASYMETRIĘ SIŁ - W relacji jedna ze stron ma przewagę nad drugą. Ofiara jest słabsza a sprawca silniejszy.</a:t>
            </a: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ytuł 1" descr=""/>
          <p:cNvPicPr/>
          <p:nvPr/>
        </p:nvPicPr>
        <p:blipFill>
          <a:blip r:embed="rId1"/>
          <a:stretch/>
        </p:blipFill>
        <p:spPr>
          <a:xfrm>
            <a:off x="225360" y="0"/>
            <a:ext cx="8747280" cy="14144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rbel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orbel"/>
              </a:rPr>
              <a:t>                        </a:t>
            </a:r>
            <a:r>
              <a:rPr b="0" lang="pl-PL" sz="4400" spc="-1" strike="noStrike">
                <a:solidFill>
                  <a:srgbClr val="000000"/>
                </a:solidFill>
                <a:latin typeface="Corbel"/>
              </a:rPr>
              <a:t>Dziękuję za uwagę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orbel"/>
              </a:rPr>
              <a:t>NARUSZA PRAWA I DOBRA OSOBISTE - Sprawca wykorzystuje przewagę siły narusza podstawowe prawa ofiary (np. prawo do nietykalności fizycznej, godności, szacunku itd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orbel"/>
              </a:rPr>
              <a:t>POWODUJE CIERPIENIE I SZKODY - Sprawca naraża zdrowie i życie ofiary na poważne szkody. Doświadczanie bólu i cierpienia sprawia, że ofiara ma mniejszą zdolność do samoobrony.</a:t>
            </a: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Przemoc fizyczn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Przemoc psychiczn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Przemoc seksualn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Przemoc ekonomiczn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rbel"/>
              </a:rPr>
              <a:t>Zaniedbani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ytuł 1" descr=""/>
          <p:cNvPicPr/>
          <p:nvPr/>
        </p:nvPicPr>
        <p:blipFill>
          <a:blip r:embed="rId1"/>
          <a:stretch/>
        </p:blipFill>
        <p:spPr>
          <a:xfrm>
            <a:off x="219240" y="6048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ba Niebieskich Kart  sporządzona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ez Policję w powiecie brzeski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k 2009  - 12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k 2010  - 55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oł. 2011 – 58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Symbol zastępczy zawartości 4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388620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ytuł 1" descr=""/>
          <p:cNvPicPr/>
          <p:nvPr/>
        </p:nvPicPr>
        <p:blipFill>
          <a:blip r:embed="rId1"/>
          <a:stretch/>
        </p:blipFill>
        <p:spPr>
          <a:xfrm>
            <a:off x="219240" y="6048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ólna liczba zarejestrowanych postepowań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przestępstwie znęcania sie nad członkiem rodziny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art 207 k.k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Rok 2009 - 11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Rok 2010 - 13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orbel"/>
              </a:rPr>
              <a:t>I poł. 2011 - 82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0" name="Symbol zastępczy zawartości 4" descr=""/>
          <p:cNvPicPr/>
          <p:nvPr/>
        </p:nvPicPr>
        <p:blipFill>
          <a:blip r:embed="rId2"/>
          <a:stretch/>
        </p:blipFill>
        <p:spPr>
          <a:xfrm>
            <a:off x="4648320" y="3657600"/>
            <a:ext cx="403848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ytuł 1" descr=""/>
          <p:cNvPicPr/>
          <p:nvPr/>
        </p:nvPicPr>
        <p:blipFill>
          <a:blip r:embed="rId1"/>
          <a:stretch/>
        </p:blipFill>
        <p:spPr>
          <a:xfrm>
            <a:off x="219240" y="6048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ólna liczba wszczętych  postępowań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przestępstwie znęcania sie nad członkiem rodziny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art 207 k.k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k 2009 - 4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k 2010 - 65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oł. 2011 -33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Symbol zastępczy zawartości 4" descr=""/>
          <p:cNvPicPr/>
          <p:nvPr/>
        </p:nvPicPr>
        <p:blipFill>
          <a:blip r:embed="rId2"/>
          <a:stretch/>
        </p:blipFill>
        <p:spPr>
          <a:xfrm>
            <a:off x="4648320" y="3581280"/>
            <a:ext cx="403848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ytuł 1" descr=""/>
          <p:cNvPicPr/>
          <p:nvPr/>
        </p:nvPicPr>
        <p:blipFill>
          <a:blip r:embed="rId1"/>
          <a:stretch/>
        </p:blipFill>
        <p:spPr>
          <a:xfrm>
            <a:off x="219240" y="6048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ólna liczba prawomocnie skazanych wyrokiem sądu z art 207 k.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k 2009 – 25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k 2010 - 25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oł. 2011 - 19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Symbol zastępczy zawartości 4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403848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xx</cp:lastModifiedBy>
  <dcterms:modified xsi:type="dcterms:W3CDTF">2012-02-01T20:40:29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